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A8F-1B33-46D2-A310-987F3537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22E-20E5-43FA-8D8E-997DC51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AE2-F3BE-4847-9CEE-4115B49B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95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052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95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052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53A-1088-49AF-8F53-246E4700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B5A3-2F60-45C3-9125-5D88C930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8CDB-1836-4F49-AEE5-E26BA477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A8F1-05A8-41D0-8C75-0211E377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A749-4AEF-43F6-9C7E-8770DB23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7B1B-C757-4F71-BAE3-9110691F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8872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E5DC-B237-46C5-A5B1-57C7CF79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B3F3-6A4D-4139-9AE6-0518605E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0EB-1FE0-416A-A99C-9D95D7D4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5432-533D-4CEB-AEA5-04CECDC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0CBB-C294-441B-9295-FF8B929A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8F4C-EEFA-4E0D-AED6-8FB4D604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BA66-191B-45DA-9BB1-17CABEE5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695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052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695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052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07FE-966B-4562-9B9B-7E5D20C7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A04-DB64-4DA3-8736-A7F11D8F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FE4-C5A0-4309-A4CC-6D6AC68C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5F2-646D-4CED-8CE7-FC736AF3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8872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C8E-F903-42CA-A23A-E1EFD0CA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8E1-4DAF-4EB9-B008-E6A84451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09C-5025-486A-968B-C2C0556D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00D-EBE2-4725-98E5-56FB6B6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A5C2-47A7-47CA-8AD5-B311F4D510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2790-5BD5-4CA3-BE32-37956B0E3E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pagliaro@seymourschools.org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Tahoma"/>
              </a:rPr>
              <a:t>Rome Review</a:t>
            </a:r>
            <a:endParaRPr b="1" lang="en-US" sz="54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art 1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867280" y="4952880"/>
            <a:ext cx="29718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. Paglia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ymour High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cpagliaro@seymourschools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opyright 2007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The Beginnings of Rome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gendary Histo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eneas-Trojan War Hero-landed in Italy; had 2 sons: Romulus &amp; Remu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mulus founded Rome in 753 BC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Founding of Rom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eneas’ twin sons wanted to found a ci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ght over position: Romulus killed Remu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mulus made Palantine Hill cente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truscans conquered Rome c. 660s BC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mans overthrew monarch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st king: Tarquin the Grea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med a republic: rule by elected leader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Rome’s Geographic Location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lls &amp; Riv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in of Latium among 7 hill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ve at top, farm at bottom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ood climate: farm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fendable posi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ber Riv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ose to Mediterranea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ided trad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land position=protectio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Rome’s Geographic Location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alian Peninsul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ided trade &amp; expansion via se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ps &amp; Apennine Mts. = protec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d not isolate Rom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ins: easier farming than Greec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ltural Influences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th: Etruscan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outh: Greek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Lives of early Romans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ing the la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rms: small plots, grew grains, lentil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ndowners served in arm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ffects in society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ome farmers grew rich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uilt estat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ap between rich &amp; poor (Patricians &amp; Plebeians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lities from societ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yalty, discipline, hard wor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Lesson Summary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gend and fact shaped Rome’s early histo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me’s geography encouraged growth of its civiliz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man society benefited from the effort and discipline of Roman farm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Why it matters now…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re are still many cultural connections among Mediterranean areas of Europe, Asia, and Africa due to Rome’s influen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Progress Monitoring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pic>
        <p:nvPicPr>
          <p:cNvPr id="98" name="Picture 4" descr="rome_christian_pmt19"/>
          <p:cNvPicPr/>
          <p:nvPr/>
        </p:nvPicPr>
        <p:blipFill>
          <a:blip r:embed="rId1"/>
          <a:stretch/>
        </p:blipFill>
        <p:spPr>
          <a:xfrm>
            <a:off x="1295280" y="838080"/>
            <a:ext cx="7643880" cy="5604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0" y="5791320"/>
            <a:ext cx="3581280" cy="91692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7960"/>
                </a:solidFill>
                <a:latin typeface="Tahoma"/>
              </a:rPr>
              <a:t>Email responses to cpagliaro@seymourschools.org (subject: rome 1 ma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4:52Z</dcterms:created>
  <dc:creator>cpagliaro</dc:creator>
  <dc:description/>
  <cp:keywords/>
  <dc:language>en-US</dc:language>
  <cp:lastModifiedBy>cpagliaro</cp:lastModifiedBy>
  <dcterms:modified xsi:type="dcterms:W3CDTF">2010-12-20T13:39:37Z</dcterms:modified>
  <cp:revision>2</cp:revision>
  <dc:subject/>
  <dc:title>Rome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51033</vt:lpwstr>
  </property>
</Properties>
</file>